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FF39EE4-7A30-4ABF-8D06-EDC63346921F}" type="datetime">
              <a:rPr b="0" lang="fr-FR" sz="1200" spc="-1" strike="noStrike">
                <a:solidFill>
                  <a:srgbClr val="000000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AB9AE5-2AAD-4A2B-8679-66DC61BCE3CD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560918-CC01-4C1B-8E0B-9BDDEBF0B126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3C630-8428-484B-BF27-F43829304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B1431-9B58-4791-B0B8-CB705BF11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85955-DF7A-41E9-BCDC-41F5736E7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27F5C-DA12-4BE2-9CF8-EF05CDD09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1979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CA91F-C5E6-439A-8773-F4D6426CB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C9C79-2B58-41E2-8ECD-6E655AE97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27CF1-FF26-4D30-8781-69C1502C7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CD263-FE5D-4350-AA3C-E678CA1AB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979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6FA8E-CF7A-4C26-A439-7E2B9171F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81699-C9C4-4184-9B8B-C21F689CF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E8DF0-FEA1-4130-AF8E-BD9988C68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B94CC-174B-4BFA-BE68-7712AA2C7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4080" indent="-128520">
              <a:spcBef>
                <a:spcPts val="799"/>
              </a:spcBef>
              <a:buClr>
                <a:srgbClr val="000000"/>
              </a:buClr>
              <a:buFont typeface="ZapfDingbat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514080" indent="-102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720000" indent="-10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B49374-CB52-418A-AC20-5DDA428EE8CE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50B4399-3578-43F2-830A-31A89350FCA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4080" indent="-128520">
              <a:spcBef>
                <a:spcPts val="799"/>
              </a:spcBef>
              <a:buClr>
                <a:srgbClr val="000000"/>
              </a:buClr>
              <a:buFont typeface="ZapfDingbat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514080" indent="-102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720000" indent="-10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5400" spc="-1" strike="noStrike">
                <a:solidFill>
                  <a:srgbClr val="1f497d"/>
                </a:solidFill>
                <a:latin typeface="Calibri"/>
              </a:rPr>
              <a:t>Journée Thématique </a:t>
            </a:r>
            <a:br>
              <a:rPr sz="5400"/>
            </a:br>
            <a:r>
              <a:rPr b="1" lang="fr-FR" sz="5400" spc="-1" strike="noStrike">
                <a:solidFill>
                  <a:srgbClr val="1f497d"/>
                </a:solidFill>
                <a:latin typeface="Calibri"/>
              </a:rPr>
              <a:t>Fibres Optique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3638160"/>
            <a:ext cx="8229600" cy="304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f497d"/>
                </a:solidFill>
                <a:latin typeface="Calibri"/>
              </a:rPr>
              <a:t>organisée par le COMET Optique et Optoélectronique (COMET OOE) du CN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Toulou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Calibri"/>
              </a:rPr>
              <a:t>28 Juin 202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98360" y="17316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89" name="Image 2" descr=""/>
          <p:cNvPicPr/>
          <p:nvPr/>
        </p:nvPicPr>
        <p:blipFill>
          <a:blip r:embed="rId2"/>
          <a:stretch/>
        </p:blipFill>
        <p:spPr>
          <a:xfrm>
            <a:off x="7702560" y="8244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4465440" y="88884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4008240" y="1517400"/>
            <a:ext cx="1127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4465440" y="220320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3120" y="21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2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Calibri"/>
              </a:rPr>
              <a:t>COMET Optique OptoElectroniqu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2719440"/>
            <a:ext cx="8543880" cy="35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98360" y="17316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97" name="Image 2" descr=""/>
          <p:cNvPicPr/>
          <p:nvPr/>
        </p:nvPicPr>
        <p:blipFill>
          <a:blip r:embed="rId2"/>
          <a:stretch/>
        </p:blipFill>
        <p:spPr>
          <a:xfrm>
            <a:off x="7702560" y="115920"/>
            <a:ext cx="1441440" cy="1081080"/>
          </a:xfrm>
          <a:prstGeom prst="rect">
            <a:avLst/>
          </a:prstGeom>
          <a:ln w="0">
            <a:noFill/>
          </a:ln>
        </p:spPr>
      </p:pic>
      <p:pic>
        <p:nvPicPr>
          <p:cNvPr id="98" name="Image 7" descr=""/>
          <p:cNvPicPr/>
          <p:nvPr/>
        </p:nvPicPr>
        <p:blipFill>
          <a:blip r:embed="rId3"/>
          <a:stretch/>
        </p:blipFill>
        <p:spPr>
          <a:xfrm>
            <a:off x="600120" y="1442880"/>
            <a:ext cx="8024760" cy="517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1680" y="2171880"/>
            <a:ext cx="8835840" cy="27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20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01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5"/>
          <p:cNvSpPr/>
          <p:nvPr/>
        </p:nvSpPr>
        <p:spPr>
          <a:xfrm>
            <a:off x="2416320" y="847800"/>
            <a:ext cx="402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Thématiques de la journ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ZoneTexte 7"/>
          <p:cNvSpPr/>
          <p:nvPr/>
        </p:nvSpPr>
        <p:spPr>
          <a:xfrm>
            <a:off x="496800" y="4624560"/>
            <a:ext cx="7900920" cy="17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f497d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Etat de l’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Echanger sur les besoins et les sol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Comprendre  les contraintes et les limit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Identifier des activités de R&amp;T fu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ZoneTexte 8"/>
          <p:cNvSpPr/>
          <p:nvPr/>
        </p:nvSpPr>
        <p:spPr>
          <a:xfrm>
            <a:off x="2589120" y="4152960"/>
            <a:ext cx="454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Objectifs de la journ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ZoneTexte 9"/>
          <p:cNvSpPr/>
          <p:nvPr/>
        </p:nvSpPr>
        <p:spPr>
          <a:xfrm>
            <a:off x="297000" y="1657440"/>
            <a:ext cx="8427960" cy="25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Solutions fibrées  pour  l’instrumentation et les capte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es technologies fibrées pour les la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es fonctions de filtrage spectrale et de polarisation avec les technologies 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fibré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a qualification des solutions fibrées (connectique, thermique, tenue 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au flux laser, radiation…)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 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07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6"/>
          <p:cNvSpPr/>
          <p:nvPr/>
        </p:nvSpPr>
        <p:spPr>
          <a:xfrm>
            <a:off x="2932200" y="363600"/>
            <a:ext cx="33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Programme final (1/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200160" y="1830240"/>
            <a:ext cx="81802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9h40 - 10h1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ibres optiques et instrumentation : Quelles propriétés ? Pour quelles fonctions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?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Michel Lequime (Institut Fresne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8"/>
          <p:cNvSpPr/>
          <p:nvPr/>
        </p:nvSpPr>
        <p:spPr>
          <a:xfrm>
            <a:off x="181080" y="2544840"/>
            <a:ext cx="8199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0h15 - 10h4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Les technologies fibrées pour les lasers continus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Philippe Roy, Raphael Jamier (Xli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9"/>
          <p:cNvSpPr/>
          <p:nvPr/>
        </p:nvSpPr>
        <p:spPr>
          <a:xfrm>
            <a:off x="181080" y="3327480"/>
            <a:ext cx="842472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0h50 - 11h2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Les technologies fibrées pour les lasers impulsionnels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Philippe Roy, Raphael Jamier (Xli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0"/>
          <p:cNvSpPr/>
          <p:nvPr/>
        </p:nvSpPr>
        <p:spPr>
          <a:xfrm>
            <a:off x="181080" y="4051440"/>
            <a:ext cx="85550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1h25 - 11h5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Architectures et performances des amplificateurs optiques fibrés bas bruit en environnement spatial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Arnaud Laurent (Exai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1"/>
          <p:cNvSpPr/>
          <p:nvPr/>
        </p:nvSpPr>
        <p:spPr>
          <a:xfrm>
            <a:off x="200160" y="481176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2h00 Cocktail déjeunatoi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2"/>
          <p:cNvSpPr/>
          <p:nvPr/>
        </p:nvSpPr>
        <p:spPr>
          <a:xfrm>
            <a:off x="181080" y="131616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9h40 SESSION 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16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5"/>
          <p:cNvSpPr/>
          <p:nvPr/>
        </p:nvSpPr>
        <p:spPr>
          <a:xfrm>
            <a:off x="2932200" y="363600"/>
            <a:ext cx="33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Programme final (2/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247680" y="7812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3h30 SESSION 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247680" y="1108080"/>
            <a:ext cx="83408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3h30 - 14h0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ente à base de fibres optiques sur l’instrument CO2M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A. Dussaux, J. Trastour, L. Francou, T. Viard (Thales Alenia Spac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8"/>
          <p:cNvSpPr/>
          <p:nvPr/>
        </p:nvSpPr>
        <p:spPr>
          <a:xfrm>
            <a:off x="247680" y="1778040"/>
            <a:ext cx="8853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4h05 - 14h3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Développements fibrés à ALPhANOV et à Xlim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Julie Magri (Alphanov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9"/>
          <p:cNvSpPr/>
          <p:nvPr/>
        </p:nvSpPr>
        <p:spPr>
          <a:xfrm>
            <a:off x="222120" y="2295360"/>
            <a:ext cx="880452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4h40 - 15h10 :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Instrumentations par fibre optique développées au CEA List pour la mesure en environnement sévère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Guillaume Laffont (Laboratoire Systèmes et Photonique pour le Monitoring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0"/>
          <p:cNvSpPr/>
          <p:nvPr/>
        </p:nvSpPr>
        <p:spPr>
          <a:xfrm>
            <a:off x="247680" y="327672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5h10 – 15h40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Pause Gourman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1"/>
          <p:cNvSpPr/>
          <p:nvPr/>
        </p:nvSpPr>
        <p:spPr>
          <a:xfrm>
            <a:off x="258840" y="3938760"/>
            <a:ext cx="880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5h40 - 16h1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ibres polarisantes et fonctions de filtrage spectral à bande étroite par réseaux de Bragg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Laurent Lablonde (Exai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2"/>
          <p:cNvSpPr/>
          <p:nvPr/>
        </p:nvSpPr>
        <p:spPr>
          <a:xfrm>
            <a:off x="222120" y="4289400"/>
            <a:ext cx="880452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6h10 - 16h4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Panoramique sur la connectique et le câblage à fibre optique pour applications spatiales</a:t>
            </a:r>
            <a:r>
              <a:rPr b="0" i="1" lang="fr-FR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Gianandrea Quadri (CNE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3"/>
          <p:cNvSpPr/>
          <p:nvPr/>
        </p:nvSpPr>
        <p:spPr>
          <a:xfrm>
            <a:off x="222120" y="5025960"/>
            <a:ext cx="87058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6h40 - 17h10 :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Combined temperature and radiation effects on silica-based optical fibers : recent progresses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– Sylvain Girard (Laboratoire Hubert Curien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4"/>
          <p:cNvSpPr/>
          <p:nvPr/>
        </p:nvSpPr>
        <p:spPr>
          <a:xfrm>
            <a:off x="271440" y="57816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7h10 - 17h20 :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120" y="799920"/>
            <a:ext cx="5837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800" spc="-1" strike="noStrike">
                <a:solidFill>
                  <a:srgbClr val="17375e"/>
                </a:solidFill>
                <a:latin typeface="Calibri"/>
              </a:rPr>
              <a:t>La fibre optique présente sur de nombreux dispositifs optiq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94920" y="1733040"/>
            <a:ext cx="6264360" cy="498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300"/>
              </a:spcBef>
              <a:buClr>
                <a:srgbClr val="ff0000"/>
              </a:buClr>
              <a:buSzPct val="20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Etalonnage de sondeurs</a:t>
            </a:r>
            <a:r>
              <a:rPr b="1" lang="en-GB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 atmosphériques  passifs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Senseurs quantiqu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Magnétomètre (SWARM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Instruments actifs d’analyse in situ (SUPERCAM CHEMCAM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Gyro à fib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Pyro las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Transport de signaux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Terminaux optiques pour les télécommunication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Télémétrie et interférométrie las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LIDA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Laser de puissance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7139160" y="903240"/>
            <a:ext cx="1834920" cy="1260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" descr=""/>
          <p:cNvPicPr/>
          <p:nvPr/>
        </p:nvPicPr>
        <p:blipFill>
          <a:blip r:embed="rId2"/>
          <a:stretch/>
        </p:blipFill>
        <p:spPr>
          <a:xfrm>
            <a:off x="7140600" y="2163600"/>
            <a:ext cx="1805040" cy="11923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"/>
          <p:cNvPicPr/>
          <p:nvPr/>
        </p:nvPicPr>
        <p:blipFill>
          <a:blip r:embed="rId3"/>
          <a:stretch/>
        </p:blipFill>
        <p:spPr>
          <a:xfrm>
            <a:off x="7147080" y="3355920"/>
            <a:ext cx="1807920" cy="1035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"/>
          <p:cNvPicPr/>
          <p:nvPr/>
        </p:nvPicPr>
        <p:blipFill>
          <a:blip r:embed="rId4"/>
          <a:stretch/>
        </p:blipFill>
        <p:spPr>
          <a:xfrm>
            <a:off x="7139160" y="5635800"/>
            <a:ext cx="1806480" cy="1112760"/>
          </a:xfrm>
          <a:prstGeom prst="rect">
            <a:avLst/>
          </a:prstGeom>
          <a:ln w="0">
            <a:noFill/>
          </a:ln>
        </p:spPr>
      </p:pic>
      <p:pic>
        <p:nvPicPr>
          <p:cNvPr id="133" name="Image 8" descr="Curiosity_P38542bd.jpg"/>
          <p:cNvPicPr/>
          <p:nvPr/>
        </p:nvPicPr>
        <p:blipFill>
          <a:blip r:embed="rId5"/>
          <a:srcRect l="0" t="0" r="17866" b="0"/>
          <a:stretch/>
        </p:blipFill>
        <p:spPr>
          <a:xfrm>
            <a:off x="7147080" y="4400640"/>
            <a:ext cx="1804680" cy="1235160"/>
          </a:xfrm>
          <a:prstGeom prst="rect">
            <a:avLst/>
          </a:prstGeom>
          <a:ln w="0">
            <a:noFill/>
          </a:ln>
        </p:spPr>
      </p:pic>
      <p:pic>
        <p:nvPicPr>
          <p:cNvPr id="134" name="Image 5" descr="Centre national d'études spatiales — Wikipédia"/>
          <p:cNvPicPr/>
          <p:nvPr/>
        </p:nvPicPr>
        <p:blipFill>
          <a:blip r:embed="rId6"/>
          <a:stretch/>
        </p:blipFill>
        <p:spPr>
          <a:xfrm>
            <a:off x="0" y="0"/>
            <a:ext cx="1130400" cy="966960"/>
          </a:xfrm>
          <a:prstGeom prst="rect">
            <a:avLst/>
          </a:prstGeom>
          <a:ln w="0">
            <a:noFill/>
          </a:ln>
        </p:spPr>
      </p:pic>
      <p:pic>
        <p:nvPicPr>
          <p:cNvPr id="135" name="Image 2" descr=""/>
          <p:cNvPicPr/>
          <p:nvPr/>
        </p:nvPicPr>
        <p:blipFill>
          <a:blip r:embed="rId7"/>
          <a:stretch/>
        </p:blipFill>
        <p:spPr>
          <a:xfrm>
            <a:off x="7951680" y="54000"/>
            <a:ext cx="1149480" cy="86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57200" y="3305160"/>
            <a:ext cx="8229600" cy="1905120"/>
          </a:xfrm>
          <a:prstGeom prst="rect">
            <a:avLst/>
          </a:prstGeom>
          <a:ln w="0">
            <a:noFill/>
          </a:ln>
        </p:spPr>
      </p:pic>
      <p:pic>
        <p:nvPicPr>
          <p:cNvPr id="138" name="Image 3" descr="P42575.jpg"/>
          <p:cNvPicPr/>
          <p:nvPr/>
        </p:nvPicPr>
        <p:blipFill>
          <a:blip r:embed="rId2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4"/>
          <p:cNvSpPr/>
          <p:nvPr/>
        </p:nvSpPr>
        <p:spPr>
          <a:xfrm>
            <a:off x="2286000" y="2057400"/>
            <a:ext cx="581184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Merci pour votre particip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Merci aux présentateu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Bon séminai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Image 5" descr="Centre national d'études spatiales — Wikipédia"/>
          <p:cNvPicPr/>
          <p:nvPr/>
        </p:nvPicPr>
        <p:blipFill>
          <a:blip r:embed="rId3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41" name="Image 2" descr=""/>
          <p:cNvPicPr/>
          <p:nvPr/>
        </p:nvPicPr>
        <p:blipFill>
          <a:blip r:embed="rId4"/>
          <a:stretch/>
        </p:blipFill>
        <p:spPr>
          <a:xfrm>
            <a:off x="8373960" y="58680"/>
            <a:ext cx="144144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7:26:13Z</dcterms:created>
  <dc:creator>Sabine Allier</dc:creator>
  <dc:description/>
  <dc:language>en-US</dc:language>
  <cp:lastModifiedBy>Oudda Laure</cp:lastModifiedBy>
  <dcterms:modified xsi:type="dcterms:W3CDTF">2023-06-27T21:12:39Z</dcterms:modified>
  <cp:revision>84</cp:revision>
  <dc:subject/>
  <dc:title>Diapositive 1</dc:title>
</cp:coreProperties>
</file>